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C68-6872-4EE9-B0EF-6C489A3C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82E-2428-428F-88C3-2E29B8B2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AEF-77EF-4A4B-8E9E-973CD19E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50F-BCF6-47B7-954C-AE4CF151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29A-D05B-4BEC-9DB6-24794422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707-8344-426A-AB0D-2019AF32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F77-D8D8-4C34-8BA8-69E36F0E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A75-18AE-46C4-867E-5D20926D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E9E-B2FC-4AEE-AC41-0F9211EB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F41-A228-4177-A2EE-9DEA13B5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3BB-24F4-4307-977F-3F5177C2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E27-5BD9-49BD-92F6-FF9B14F3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13E2-D928-4325-B0BB-2D532DDE150C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 u="sng">
                <a:solidFill>
                  <a:srgbClr val="ffff00"/>
                </a:solidFill>
                <a:uFillTx/>
                <a:latin typeface="Times New Roman"/>
                <a:cs typeface="Diwany6 Normal"/>
              </a:rPr>
              <a:t>نشيد الدخول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ar-SA" sz="8000" spc="-1" strike="noStrike">
                <a:solidFill>
                  <a:srgbClr val="ffff00"/>
                </a:solidFill>
                <a:latin typeface="Tahoma"/>
                <a:cs typeface="????Boutros Rokaa"/>
              </a:rPr>
              <a:t>ربي أن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Tahoma"/>
                <a:cs typeface="????Boutros Rokaa"/>
              </a:rPr>
              <a:t>طر يق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81280" y="2781360"/>
            <a:ext cx="5562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أنت طريق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في معاثر الحيا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أنت رفيق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عند ساعة الـمما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5280" y="1989000"/>
            <a:ext cx="5508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َك دع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كَ رج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غايةُ الـمن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درُ ا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35280" y="1989000"/>
            <a:ext cx="5508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نارٌ لقلب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أيضاً نس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هديٌ لدربي أنتَ فجرِيَ الوس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5280" y="1989000"/>
            <a:ext cx="5508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َك دع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كَ رج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غايةُ الـمن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درُ ا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60" y="3500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ahoma"/>
                <a:cs typeface="Akhbar MT"/>
              </a:rPr>
              <a:t>أُعضدِ الـموجعينَ ساعدِ البائسي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400536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ahoma"/>
                <a:cs typeface="Akhbar MT"/>
              </a:rPr>
              <a:t>أشبعِ الجائعينَ أرجِعِ الخاطئي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35280" y="1989000"/>
            <a:ext cx="5508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َك دع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كَ رج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غايةُ الـمن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درُ ا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01:34Z</dcterms:created>
  <dc:creator>Charbel Azar</dc:creator>
  <dc:description/>
  <dc:language>en-US</dc:language>
  <cp:lastModifiedBy>ف</cp:lastModifiedBy>
  <dcterms:modified xsi:type="dcterms:W3CDTF">2006-11-27T20:51:13Z</dcterms:modified>
  <cp:revision>4</cp:revision>
  <dc:subject/>
  <dc:title>PowerPoint Presentation</dc:title>
</cp:coreProperties>
</file>